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CFD43-3116-4500-A544-67346391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375F5-4AC7-42C0-B928-E7CF4B1D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9DC7D-83ED-43A6-932C-45767944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069E2-E904-498B-9497-6ADCA8E9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19E1-3D9F-4647-9591-13674439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D22A-8A71-454A-89EC-69054082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DF8F-137B-4776-BFF3-76342D58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0018-A4AD-4E26-A7DB-ADA48DF4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3627-E74A-4774-8493-A55F3041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55DE-FB3E-497F-AD93-7B41FD24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5E91-3D89-474B-8FD8-AE796D8E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57ECA-99DD-4D27-920A-83DDDD62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49E0-B4DE-4837-817B-C650582D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9E50-4EB5-4038-BBF4-4197545B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8B84-D3E8-45E5-A256-CE95AC0C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4CBD-63B4-47A7-A1B3-50153F50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6179-4AE7-4899-8150-65FA0DE5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693F6-5806-4636-B050-696AAF0A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ED114-00B5-4B77-8EAA-5D1C2BE7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44D6C-1308-4FBE-863F-7F334560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DE3D2-EBC2-4488-B3A0-349FAFAE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3F128-3C62-4D1E-87F9-04E8CFBE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930CF-5467-4C07-8B2D-AA163903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51328-9EB0-4E7D-9866-63098C26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2928-B997-471A-A924-A7FF970D1A6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6B94-D2AC-4BDC-885A-151A1FA41A8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918800"/>
            <a:ext cx="8928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4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Пр.73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Витлеемското пол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окойно седнал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вчари вардеха добр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през нощ овците си.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44080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бесен ангел слезе там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ава ги осия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газ внезапно страх голям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рца им облада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 той "Не бойте се - каза,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лаговествувам в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ляма радост, вест добр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за вас тук и за вси!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44080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оди се днес във Витлеем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от Давидов род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те, Което ще зовем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Спасител и Господ!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68360" y="2658240"/>
            <a:ext cx="842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лязоха посред нощ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ойски от горний двор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пяха сладко песен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на ангелския хор.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244080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Во вишних слава! - тъй зап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бесно множество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мир по всичката зем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 в тоз ден на рождество!":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30T08:45:36Z</dcterms:modified>
  <cp:revision>46</cp:revision>
  <dc:subject/>
  <dc:title>Slide 1</dc:title>
</cp:coreProperties>
</file>